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DEB5-31D2-4954-AFCC-FE0835391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47A3-82C0-4EE3-9F23-E20C83FB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1199-FAEF-4A22-94F4-73503B95A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F1B8-2F40-4F64-A583-4EF1DBD15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9383-C33E-49B5-A5F5-47A8328DC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1F5F-9848-422E-8861-E8360192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2C62-82C0-4198-8FA7-50B968B5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B614-4FE2-4A85-9A3F-EFE6FD4E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2825-5CA1-4317-9C5C-9B8A5A3A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63288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8A4A-FD31-4136-A8EF-C27B9EA38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1494-6CBA-4EAE-AC21-1FFBDED2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D277-B6D5-4ED6-B18B-06500AA4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83A9-A64A-44D0-BBE1-A8D33104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35C9-AB51-4E31-A7D6-A84014A3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2D0D-3A41-4579-A8A5-9F86D034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BCB6-5E7B-4A6D-9F9D-4BD92E40E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77E3-498A-4894-AB78-01EB0D728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599A-2A91-4C02-BC9C-1407EC07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F478-0AFF-4D1E-B750-1B6E8AE0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53A4-4768-4B5B-9777-53F57BAE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63288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B7AE-1505-4622-9775-A1D12634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1D12-69B8-4CD1-AFF6-AB97F1B4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DE63-91CC-405A-804B-E90BA734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FB3F-1002-4A55-BC7C-A435EFE2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6446880"/>
            <a:ext cx="9144000" cy="4381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3"/>
          <p:cNvSpPr>
            <a:spLocks noGrp="1"/>
          </p:cNvSpPr>
          <p:nvPr>
            <p:ph type="dt" idx="1"/>
          </p:nvPr>
        </p:nvSpPr>
        <p:spPr>
          <a:xfrm>
            <a:off x="442440" y="6302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2"/>
          </p:nvPr>
        </p:nvSpPr>
        <p:spPr>
          <a:xfrm>
            <a:off x="3409560" y="63162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3"/>
          </p:nvPr>
        </p:nvSpPr>
        <p:spPr>
          <a:xfrm>
            <a:off x="6366960" y="6302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6B6D-17C7-4F89-84F9-8949C4B5C1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548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3240" y="4294080"/>
            <a:ext cx="9140760" cy="2590920"/>
            <a:chOff x="3240" y="4294080"/>
            <a:chExt cx="9140760" cy="2590920"/>
          </a:xfrm>
        </p:grpSpPr>
        <p:sp>
          <p:nvSpPr>
            <p:cNvPr id="109" name=""/>
            <p:cNvSpPr/>
            <p:nvPr/>
          </p:nvSpPr>
          <p:spPr>
            <a:xfrm>
              <a:off x="3240" y="4294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5600880" y="5924520"/>
              <a:ext cx="1256760" cy="827280"/>
              <a:chOff x="5600880" y="5924520"/>
              <a:chExt cx="1256760" cy="827280"/>
            </a:xfrm>
          </p:grpSpPr>
          <p:sp>
            <p:nvSpPr>
              <p:cNvPr id="111" name=""/>
              <p:cNvSpPr/>
              <p:nvPr/>
            </p:nvSpPr>
            <p:spPr>
              <a:xfrm>
                <a:off x="5852880" y="6075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916600" y="6122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005520" y="6173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068880" y="6211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122880" y="6253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76840" y="5924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867280" y="6647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600880" y="6227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667120" y="5972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410160" y="5934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208560" y="6294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819520" y="5791320"/>
              <a:ext cx="2581200" cy="1084320"/>
              <a:chOff x="2819520" y="5791320"/>
              <a:chExt cx="2581200" cy="1084320"/>
            </a:xfrm>
          </p:grpSpPr>
          <p:sp>
            <p:nvSpPr>
              <p:cNvPr id="123" name=""/>
              <p:cNvSpPr/>
              <p:nvPr/>
            </p:nvSpPr>
            <p:spPr>
              <a:xfrm>
                <a:off x="3600360" y="6272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673440" y="6310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16280" y="6343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759120" y="6372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786120" y="6384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868560" y="6418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930480" y="6465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035600" y="6531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103640" y="6094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400560" y="6141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305160" y="6103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41920" y="6446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282840" y="5877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963880" y="6143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684680" y="5981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679920" y="5791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245200" y="6504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819520" y="5857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6553080" y="5361120"/>
              <a:ext cx="2144880" cy="1303200"/>
              <a:chOff x="6553080" y="5361120"/>
              <a:chExt cx="2144880" cy="1303200"/>
            </a:xfrm>
          </p:grpSpPr>
          <p:sp>
            <p:nvSpPr>
              <p:cNvPr id="142" name=""/>
              <p:cNvSpPr/>
              <p:nvPr/>
            </p:nvSpPr>
            <p:spPr>
              <a:xfrm>
                <a:off x="6667560" y="5427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553080" y="5370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607160" y="5361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327880" y="6388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151760" y="6492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470800" y="5827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034480" y="5780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056360" y="5665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904080" y="5599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45360" y="5570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85160" y="5675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216920" y="5754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267680" y="5789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18440" y="5821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388280" y="5865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445520" y="5897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521480" y="5945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8381880" y="4827600"/>
              <a:ext cx="674640" cy="409680"/>
              <a:chOff x="8381880" y="4827600"/>
              <a:chExt cx="674640" cy="409680"/>
            </a:xfrm>
          </p:grpSpPr>
          <p:sp>
            <p:nvSpPr>
              <p:cNvPr id="160" name=""/>
              <p:cNvSpPr/>
              <p:nvPr/>
            </p:nvSpPr>
            <p:spPr>
              <a:xfrm>
                <a:off x="8381880" y="5084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437680" y="4827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61480" y="4894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532720" y="5180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20040" y="4856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713800" y="4856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485200" y="4881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8542440" y="4924440"/>
                <a:ext cx="360360" cy="209520"/>
                <a:chOff x="8542440" y="4924440"/>
                <a:chExt cx="360360" cy="2095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8542440" y="4924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577360" y="4946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8621640" y="4962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8664480" y="4987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0" y="6446880"/>
            <a:ext cx="9144000" cy="4381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 type="dt" idx="4"/>
          </p:nvPr>
        </p:nvSpPr>
        <p:spPr>
          <a:xfrm>
            <a:off x="394920" y="630864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5"/>
          </p:nvPr>
        </p:nvSpPr>
        <p:spPr>
          <a:xfrm>
            <a:off x="3404880" y="63421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6"/>
          </p:nvPr>
        </p:nvSpPr>
        <p:spPr>
          <a:xfrm>
            <a:off x="6399360" y="630864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E6E7-1D22-48F4-8694-F4253F284D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985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章：形式化说明技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7913520" cy="27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非形式化方法：自然语言描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半形式化方法：数据流图或实体－联系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形式化方法：基于数学技术描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84360" y="1195200"/>
            <a:ext cx="799128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.2.3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评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有穷状态机描述规格说明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当前状态＋事件＋谓词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=&gt;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下个状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易于书写、验证、转变成设计或程序代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187280" y="4070520"/>
            <a:ext cx="6985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有穷状态机方法比数据流图技术更精确，一样易于理解。但不能处理定时需求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23640" y="775800"/>
            <a:ext cx="333684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.3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tri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01800" y="1488600"/>
            <a:ext cx="495288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.3.1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708660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826920" y="1009800"/>
            <a:ext cx="7848720" cy="51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tri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网包含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种元素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一组位置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上例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{P1,P2,P3,P4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一组转换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上例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{t1,t2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输入函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上例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{P2,P4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{P2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输出函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上例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{P1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{P3,P3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更形式化的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etri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网结构，是一个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元组（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2232000" y="5408640"/>
            <a:ext cx="50832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权标向量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295280" y="1203480"/>
            <a:ext cx="662940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295280" y="1131840"/>
            <a:ext cx="6629400" cy="40975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2232000" y="5408640"/>
            <a:ext cx="50832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权标向量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447920" y="1082520"/>
            <a:ext cx="6400800" cy="42912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2232000" y="5479920"/>
            <a:ext cx="50832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权标向量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685800" y="1117440"/>
            <a:ext cx="79898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更形式化地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标记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：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&gt;{0,1,2,…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tri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网成为一个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元组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838080" y="1052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对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tri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网的一个重要扩充是加入禁止线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665360" y="1700280"/>
            <a:ext cx="571500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09120" y="7398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.3.2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例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.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电梯按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190520" y="2276640"/>
            <a:ext cx="6910560" cy="35067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973080" y="5661000"/>
            <a:ext cx="77756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B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电梯中楼层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f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按钮；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楼层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楼层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816840" y="333360"/>
            <a:ext cx="1563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.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楼层按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763640" y="1001880"/>
            <a:ext cx="5856480" cy="49575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11280" y="5734080"/>
            <a:ext cx="82803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B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f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楼层向上按钮；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B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f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楼层向下按钮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3640" y="506520"/>
            <a:ext cx="2160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4.1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96360" y="98064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.1.1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非形式化方法的缺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自然语言书写的系统规格说明书可能存在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矛盾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二义性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如：</a:t>
            </a:r>
            <a:r>
              <a:rPr b="1" lang="zh-CN" sz="2400" spc="-1" strike="noStrike">
                <a:solidFill>
                  <a:srgbClr val="ccecff"/>
                </a:solidFill>
                <a:latin typeface="仿宋_GB2312"/>
                <a:ea typeface="仿宋_GB2312"/>
              </a:rPr>
              <a:t>“</a:t>
            </a:r>
            <a:r>
              <a:rPr b="1" lang="zh-CN" sz="24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操作员标识由操作员姓名和密码组成，密码由</a:t>
            </a:r>
            <a:r>
              <a:rPr b="1" lang="en-US" sz="24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6</a:t>
            </a:r>
            <a:r>
              <a:rPr b="1" lang="zh-CN" sz="24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位数字构成，当操作员登陆系统时它被存储在注册文件中</a:t>
            </a:r>
            <a:r>
              <a:rPr b="1" lang="zh-CN" sz="2400" spc="-1" strike="noStrike">
                <a:solidFill>
                  <a:srgbClr val="ccecff"/>
                </a:solidFill>
                <a:latin typeface="仿宋_GB2312"/>
                <a:ea typeface="仿宋_GB2312"/>
              </a:rPr>
              <a:t>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含糊性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不完整性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抽象层次混乱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99640" y="1270080"/>
            <a:ext cx="755964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基于数学的形式化说明技术，目前还没有在软件产业界广泛应用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应该把形式化方法与传统方法有机结合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85800" y="691920"/>
            <a:ext cx="77724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9532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.1.2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形式化方法的优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9532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数学是理想的建模工具，适合于表示系统状态和描述系统需求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9532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用数学表达的需求可在不同开发阶段平滑过渡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4360" y="3502080"/>
            <a:ext cx="77724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95320" indent="-8953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4.1.3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应用形式化方法的准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95320" indent="-8953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）选择合适的形式化方法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95320" indent="-8953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）需要形式化，但不能过渡形式化，不能放弃传统的需求表达方法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95320" indent="-8953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）应该有形式化方法的专家提供指导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4920" y="652320"/>
            <a:ext cx="547524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.2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有穷状态机法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S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120" y="1415520"/>
            <a:ext cx="632484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.2.1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826920" y="2017800"/>
            <a:ext cx="7634520" cy="33559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762120" y="5445000"/>
            <a:ext cx="8057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锁的三个位置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 转盘可向左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或右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）；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锁密码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52280" y="1482840"/>
            <a:ext cx="88394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744120" y="884160"/>
            <a:ext cx="7859880" cy="53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一个有穷状态机包括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部分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状态集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{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保险箱锁定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保险箱解锁，报警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输入集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{1L,1R,2L,2R,3L,3R}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转换函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如表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4.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初始状态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保险箱锁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终态集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{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保险箱解锁，报警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更形式化的术语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一个有穷状态机可表示一个为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元组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,K,T,S,F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1401840" y="2617920"/>
            <a:ext cx="7634160" cy="34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状态转换形式</a:t>
            </a:r>
            <a:r>
              <a:rPr b="1" lang="zh-CN" sz="2800" spc="-1" strike="noStrike">
                <a:solidFill>
                  <a:srgbClr val="ccecff"/>
                </a:solidFill>
                <a:latin typeface="Arial"/>
                <a:ea typeface="黑体"/>
              </a:rPr>
              <a:t>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当前状态【菜单】＋事件【所选择的项】＝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下个状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加入谓词集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P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把系统扩展成一个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元组后</a:t>
            </a:r>
            <a:r>
              <a:rPr b="1" lang="zh-CN" sz="2800" spc="-1" strike="noStrike">
                <a:solidFill>
                  <a:srgbClr val="ccecff"/>
                </a:solidFill>
                <a:latin typeface="黑体"/>
                <a:ea typeface="黑体"/>
              </a:rPr>
              <a:t>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当前状态【菜单】＋事件【所选择的项】＋谓词＝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下个状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2560" y="974880"/>
            <a:ext cx="7993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计算机系统中每个菜单驱动的用户界面都是一个有穷状态机的实现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96720" y="1557000"/>
            <a:ext cx="8568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04960" indent="0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定义状态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960" indent="0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(d,e,f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电梯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正沿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方向移动，即将到达第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层楼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04960" indent="0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(d,e,f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电梯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停在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层楼，将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方向移动（未关门）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04960" indent="0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(e,f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电梯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层等待（已关门）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04960" indent="0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(e,f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电梯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在楼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关上门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04960" indent="0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(e,f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电梯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靠近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层时触发传感器，电梯控制器决定在当前楼层是否停下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04960" indent="0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L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电梯按钮或楼层按钮被按下进入打开状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9640" y="1054080"/>
            <a:ext cx="5256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4.2.2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例子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电梯的状态转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692360" y="853920"/>
            <a:ext cx="5688000" cy="45198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11280" y="5373720"/>
            <a:ext cx="842472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电梯状态转换规则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(U,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+DC(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=&gt;M(U,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+1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62120" indent="-76212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②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(D,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+DC(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=&gt;M(D,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1);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③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(N,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+DC(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=&gt;W(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4:25:47Z</dcterms:created>
  <dc:creator>yzg</dc:creator>
  <dc:description/>
  <dc:language>en-US</dc:language>
  <cp:lastModifiedBy>MC SYSTEM</cp:lastModifiedBy>
  <dcterms:modified xsi:type="dcterms:W3CDTF">2015-03-16T07:44:18Z</dcterms:modified>
  <cp:revision>504</cp:revision>
  <dc:subject/>
  <dc:title>软件工程</dc:title>
</cp:coreProperties>
</file>