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2A6A4-0F86-4CF6-AD23-C9AF5E6D1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63288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9A5C1-48C4-44B1-A511-446814CF4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63288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5AFE8-02E8-486F-B126-F4F901DD4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63288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47003-5760-4AA2-B968-655EE90E3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711F2-353A-4FDC-9A34-F94FE30EE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63288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F2C02-0408-482A-B509-92F18F0DB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63288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DC805-FAE8-47E0-8620-5C8437243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63288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64C10-535F-4602-93A4-468FD0C48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63288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308A4-CB7A-4CC0-985C-5FB16CA6B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7200" y="632880"/>
            <a:ext cx="822960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3AD51-1B39-4BA8-B749-F23EAB1AF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63288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A95D8-29BC-4E1A-AF13-D69BD5167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63288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20B58-4708-4DB3-A219-1EA7401FD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63288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444D3-F036-48E6-A136-471F04BB8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63288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9DA10-C626-4A01-847C-9FD02AEAA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63288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B26CF-EAE7-422C-83D0-65C8EF8D6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63288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FD7BB-0EBE-42DD-A320-53EB83FB5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63288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4EB4A-34AA-41D0-9A14-8D6BE344B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63288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813FD-381A-4370-9F63-969B5F740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63288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1A79A-D632-4206-808E-5785A56CE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63288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526E5-3386-4A84-8B93-62FAFAA0F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632880"/>
            <a:ext cx="822960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07E9C-F4A7-4877-8C28-29EF65DED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63288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20CDF-E41F-469C-923C-090CE3F89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63288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5C5D4-3D1F-454C-906F-B584E34C4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63288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424B4-EEC5-446A-A78B-83617461A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63288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0" y="6446880"/>
            <a:ext cx="9144000" cy="43812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3"/>
          <p:cNvSpPr>
            <a:spLocks noGrp="1"/>
          </p:cNvSpPr>
          <p:nvPr>
            <p:ph type="dt" idx="1"/>
          </p:nvPr>
        </p:nvSpPr>
        <p:spPr>
          <a:xfrm>
            <a:off x="442440" y="6302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ftr" idx="2"/>
          </p:nvPr>
        </p:nvSpPr>
        <p:spPr>
          <a:xfrm>
            <a:off x="3409560" y="631620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 type="sldNum" idx="3"/>
          </p:nvPr>
        </p:nvSpPr>
        <p:spPr>
          <a:xfrm>
            <a:off x="6366960" y="6302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B5520-E249-4385-87BD-79B53FA33B5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55480"/>
          </a:xfrm>
          <a:prstGeom prst="rect">
            <a:avLst/>
          </a:prstGeom>
          <a:ln w="0">
            <a:noFill/>
          </a:ln>
        </p:spPr>
      </p:pic>
      <p:grpSp>
        <p:nvGrpSpPr>
          <p:cNvPr id="108" name=""/>
          <p:cNvGrpSpPr/>
          <p:nvPr/>
        </p:nvGrpSpPr>
        <p:grpSpPr>
          <a:xfrm>
            <a:off x="3240" y="4294080"/>
            <a:ext cx="9140760" cy="2590920"/>
            <a:chOff x="3240" y="4294080"/>
            <a:chExt cx="9140760" cy="2590920"/>
          </a:xfrm>
        </p:grpSpPr>
        <p:sp>
          <p:nvSpPr>
            <p:cNvPr id="109" name=""/>
            <p:cNvSpPr/>
            <p:nvPr/>
          </p:nvSpPr>
          <p:spPr>
            <a:xfrm>
              <a:off x="3240" y="4294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5600880" y="5924520"/>
              <a:ext cx="1256760" cy="827280"/>
              <a:chOff x="5600880" y="5924520"/>
              <a:chExt cx="1256760" cy="827280"/>
            </a:xfrm>
          </p:grpSpPr>
          <p:sp>
            <p:nvSpPr>
              <p:cNvPr id="111" name=""/>
              <p:cNvSpPr/>
              <p:nvPr/>
            </p:nvSpPr>
            <p:spPr>
              <a:xfrm>
                <a:off x="5852880" y="6075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5916600" y="6122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005520" y="6173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6068880" y="6211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6122880" y="6253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76840" y="5924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867280" y="6647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5600880" y="6227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667120" y="5972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6410160" y="5934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6208560" y="6294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2" name=""/>
            <p:cNvGrpSpPr/>
            <p:nvPr/>
          </p:nvGrpSpPr>
          <p:grpSpPr>
            <a:xfrm>
              <a:off x="2819520" y="5791320"/>
              <a:ext cx="2581200" cy="1084320"/>
              <a:chOff x="2819520" y="5791320"/>
              <a:chExt cx="2581200" cy="1084320"/>
            </a:xfrm>
          </p:grpSpPr>
          <p:sp>
            <p:nvSpPr>
              <p:cNvPr id="123" name=""/>
              <p:cNvSpPr/>
              <p:nvPr/>
            </p:nvSpPr>
            <p:spPr>
              <a:xfrm>
                <a:off x="3600360" y="6272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673440" y="6310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16280" y="6343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759120" y="6372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786120" y="6384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868560" y="6418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930480" y="6465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4035600" y="6531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4103640" y="6094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400560" y="6141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305160" y="6103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741920" y="6446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3282840" y="5877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2963880" y="6143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684680" y="5981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3679920" y="5791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245200" y="6504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2819520" y="5857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41" name=""/>
            <p:cNvGrpSpPr/>
            <p:nvPr/>
          </p:nvGrpSpPr>
          <p:grpSpPr>
            <a:xfrm>
              <a:off x="6553080" y="5361120"/>
              <a:ext cx="2144880" cy="1303200"/>
              <a:chOff x="6553080" y="5361120"/>
              <a:chExt cx="2144880" cy="1303200"/>
            </a:xfrm>
          </p:grpSpPr>
          <p:sp>
            <p:nvSpPr>
              <p:cNvPr id="142" name=""/>
              <p:cNvSpPr/>
              <p:nvPr/>
            </p:nvSpPr>
            <p:spPr>
              <a:xfrm>
                <a:off x="6667560" y="5427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6553080" y="5370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607160" y="5361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327880" y="6388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7151760" y="6492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8470800" y="5827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8034480" y="5780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056360" y="5665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904080" y="5599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45360" y="5570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85160" y="5675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216920" y="5754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267680" y="5789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318440" y="5821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388280" y="5865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445520" y="5897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521480" y="5945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9" name=""/>
            <p:cNvGrpSpPr/>
            <p:nvPr/>
          </p:nvGrpSpPr>
          <p:grpSpPr>
            <a:xfrm>
              <a:off x="8381880" y="4827600"/>
              <a:ext cx="674640" cy="409680"/>
              <a:chOff x="8381880" y="4827600"/>
              <a:chExt cx="674640" cy="409680"/>
            </a:xfrm>
          </p:grpSpPr>
          <p:sp>
            <p:nvSpPr>
              <p:cNvPr id="160" name=""/>
              <p:cNvSpPr/>
              <p:nvPr/>
            </p:nvSpPr>
            <p:spPr>
              <a:xfrm>
                <a:off x="8381880" y="5084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437680" y="4827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961480" y="4894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532720" y="5180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20040" y="4856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713800" y="4856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8485200" y="4881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67" name=""/>
              <p:cNvGrpSpPr/>
              <p:nvPr/>
            </p:nvGrpSpPr>
            <p:grpSpPr>
              <a:xfrm>
                <a:off x="8542440" y="4924440"/>
                <a:ext cx="360360" cy="209520"/>
                <a:chOff x="8542440" y="4924440"/>
                <a:chExt cx="360360" cy="20952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8542440" y="4924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577360" y="4946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8621640" y="4962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8664480" y="4987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3"/>
          <a:stretch/>
        </p:blipFill>
        <p:spPr>
          <a:xfrm>
            <a:off x="0" y="6446880"/>
            <a:ext cx="9144000" cy="43812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2"/>
          <p:cNvSpPr>
            <a:spLocks noGrp="1"/>
          </p:cNvSpPr>
          <p:nvPr>
            <p:ph type="dt" idx="4"/>
          </p:nvPr>
        </p:nvSpPr>
        <p:spPr>
          <a:xfrm>
            <a:off x="394920" y="630864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ftr" idx="5"/>
          </p:nvPr>
        </p:nvSpPr>
        <p:spPr>
          <a:xfrm>
            <a:off x="3404880" y="63421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sldNum" idx="6"/>
          </p:nvPr>
        </p:nvSpPr>
        <p:spPr>
          <a:xfrm>
            <a:off x="6399360" y="630864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87DB1-0656-4768-B523-09F57386DBC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057400" y="1290600"/>
            <a:ext cx="4495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第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8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章：维护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8840" y="2178000"/>
            <a:ext cx="7993080" cy="30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软件维护是软件生命周期的最后一个阶段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它的任务是：维护软件的正常运行，不断改进软件的性能和质量，为软件的进一步推广应用和更新替换做积极工作。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838080" y="822240"/>
            <a:ext cx="7315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）逐步方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逐步方式是将软件分期，部分地交付使用。这种方式克服了上面两种方式的缺点，既能防止直接转换产生的危险性，又能减少并行方式的费用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但是这种方法使得整个系统中一部分是旧系统，一部分是新系统，所以必须考虑好它们的相互配合问题和接口问题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755640" y="1752480"/>
            <a:ext cx="746604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实际应用中，常常是混合以上几种方法。对系统不重要的部分采用直接方式，对系统重要部分采用并行方式，使系统平稳交付使用。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838080" y="1712880"/>
            <a:ext cx="739152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577800"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通常要求进行软件维护的原因有三种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7800"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改正在特定使用条件下暴露出来的一些潜在程序错误或设计缺陷；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7800"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因在软件使用过程中数据环境发生变化（如所要处理的数据发生变化）或处理环境发生变化（如硬件或软件操作系统等发生变化），需要修改软件，以适应这种变化；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title"/>
          </p:nvPr>
        </p:nvSpPr>
        <p:spPr>
          <a:xfrm>
            <a:off x="684360" y="836280"/>
            <a:ext cx="5727600" cy="5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8.1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软件维护的定义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214280" y="1336680"/>
            <a:ext cx="290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8.1.1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软件维护的原因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/>
          </p:nvPr>
        </p:nvSpPr>
        <p:spPr>
          <a:xfrm>
            <a:off x="838080" y="1294920"/>
            <a:ext cx="7315200" cy="293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7800"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用户和数据处理人员在使用时常提出改进现有功能、增加新功能、以及改善总体性能的要求，为满足这些要求，需要修改软件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795240" y="1770120"/>
            <a:ext cx="7664400" cy="36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）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改正性维护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交付给用户使用的软件，即使通过严格的测试，仍可能有一些潜在的错误在用户使用的过程中发现和修改。诊断和改正错误的过程称为改正性维护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354680" y="1058760"/>
            <a:ext cx="323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8.1.2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软件维护的类型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/>
          </p:nvPr>
        </p:nvSpPr>
        <p:spPr>
          <a:xfrm>
            <a:off x="838080" y="914400"/>
            <a:ext cx="7391520" cy="4454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）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适应性维护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随着计算机的飞速发展，新的硬件系统和外部设备时常更新和升级，一些数据库环境、数据输入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输出方式、数据存储介质等也可能发生变换。为了使软件适应这些环境变化而修改软件的过程叫做适应性维护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/>
          </p:nvPr>
        </p:nvSpPr>
        <p:spPr>
          <a:xfrm>
            <a:off x="914040" y="1066680"/>
            <a:ext cx="708660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）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完善性维护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在软件投入使用过程中，用户可能还会有新的功能和性能要求，可能会提出增加新功能、修改现有功能等要求。为了满足这类要求而进行的维护称为完善性维护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/>
          </p:nvPr>
        </p:nvSpPr>
        <p:spPr>
          <a:xfrm>
            <a:off x="838080" y="1066680"/>
            <a:ext cx="73152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）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预防性维护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为了改进软件未来的可维护性或可靠性，或者为了给未来的改进奠定更好的基础而进行的修改，称为预防性维护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这种维护活动在实践中比较少见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/>
          </p:nvPr>
        </p:nvSpPr>
        <p:spPr>
          <a:xfrm>
            <a:off x="761760" y="114264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在各类维护中，完善性维护占软件维护工作的大部分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根据国外的数据统计表明，完善性维护占全部维护活动的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50%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～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66%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，改正性维护占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17%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～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21%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，适应性维护占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18%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～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25%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，其它维护活动占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4%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左右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539640" y="1439640"/>
            <a:ext cx="7989840" cy="494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8.2.1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结构化维护与非结构化维护的差别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1.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非结构化维护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软件配置的唯一成分是代码，维护从评价程序代码开始，对软件结构、数据结构、系统接口、设计约束等常产生误解，不能进行回归测试，维护代价大。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2.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结构化维护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有完整的软件配置，维护从评价设计文档开始，确定软件结构、性能和接口特点，现修改设计，接着修改代码，再进行回归测试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title"/>
          </p:nvPr>
        </p:nvSpPr>
        <p:spPr>
          <a:xfrm>
            <a:off x="539640" y="798120"/>
            <a:ext cx="50292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8.2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软件维护的特点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964800" y="1612800"/>
            <a:ext cx="7086600" cy="2895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软件维护所需的工作量非常大，一般说来，大型软件的维护成本高达开发总成本的四倍左右。目前，软件开发组织把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60%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以上的工作量用于维护自己的软件上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/>
          </p:nvPr>
        </p:nvSpPr>
        <p:spPr>
          <a:xfrm>
            <a:off x="762120" y="2204640"/>
            <a:ext cx="791352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软件维护的代价表现为有形代价和无形代价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有形代价指软件维护的费用开支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70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年代，用于软件维护的费用只占软件总预算的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30%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～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40%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80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年代上升到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60%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左右，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90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年代许多软件项目的维护经费预算达到了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80%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1287360" y="977760"/>
            <a:ext cx="290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8.2.2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软件维护的代价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73000" y="1757520"/>
            <a:ext cx="441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1.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有形代价与无形代价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/>
          </p:nvPr>
        </p:nvSpPr>
        <p:spPr>
          <a:xfrm>
            <a:off x="837720" y="914400"/>
            <a:ext cx="72392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7800"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无形代价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7800"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当一些看起来合理的要求不能及时满足时，会引起用户的不满；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7800"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改动软件可能会引入新的错误，使软件质量下降；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7800"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把许多软件工程师调去从事维护工作，势必影响开发工作。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/>
          </p:nvPr>
        </p:nvSpPr>
        <p:spPr>
          <a:xfrm>
            <a:off x="698400" y="1790280"/>
            <a:ext cx="7585200" cy="328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软件维护所花费的工作量，一部分用于生产性活动，如分析、评价、修改设计、编写程序等；另一部分用于非生产性活动，如理解代码的含义、解释数据结构和接口特点等。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446120" y="1193760"/>
            <a:ext cx="298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2.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软件维护工作量模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/>
          </p:nvPr>
        </p:nvSpPr>
        <p:spPr>
          <a:xfrm>
            <a:off x="685800" y="1342800"/>
            <a:ext cx="7989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Belady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和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Lehman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提出了一种维护工作量模型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            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M=P+Ke</a:t>
            </a:r>
            <a:r>
              <a:rPr b="1" lang="en-US" sz="3200" spc="-1" strike="noStrike" baseline="30000">
                <a:solidFill>
                  <a:srgbClr val="ffff00"/>
                </a:solidFill>
                <a:latin typeface="Times New Roman"/>
              </a:rPr>
              <a:t>(c-d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其中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：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用于维护工作的总工作量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；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：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生产性工作量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：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经验常数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：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因缺乏好的设计和文档而导致软件复杂性的度量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：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维护人员对软件熟悉程度的度量。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/>
          </p:nvPr>
        </p:nvSpPr>
        <p:spPr>
          <a:xfrm>
            <a:off x="618840" y="1634760"/>
            <a:ext cx="7986600" cy="29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上述模型指出：如果使用了不好的软件开发方法，原来参加开发的人员或小组不能参加维护，则工作量和成本将按指数级增加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761760" y="1200240"/>
            <a:ext cx="5181480" cy="64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8.2.3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软件维护的典型问题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762120" y="1698480"/>
            <a:ext cx="746748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7800" indent="-57780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）如果维护时只有程序代码而没有注释说明，维护起来就相当困难；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7800" indent="-57780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）由于软件维护阶段时间长，软件开发人员经常流动，所以在维护时，不可能所有的维护工作都依靠原来的开发人员。这会使得维护工作量增加；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/>
          </p:nvPr>
        </p:nvSpPr>
        <p:spPr>
          <a:xfrm>
            <a:off x="685440" y="833040"/>
            <a:ext cx="7543800" cy="468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7800"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）软件没有足够的文档资料，或者程序修改后与文档资料不一致；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7800"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）绝大多数软件在设计时没有考虑将来的修改，所以建议采用功能独立的模块化设计原则，增加软件的可维护性；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780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）软件维护被许多人视为一种毫无吸引力的工作，因为维护工作常常受到挫折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762120" y="5638680"/>
            <a:ext cx="7770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要缓解以上典型问题，建议采用软件工程的方法来开发程序。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96720" y="773280"/>
            <a:ext cx="3959280" cy="78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8.3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软件维护过程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440" y="1707840"/>
            <a:ext cx="4267080" cy="5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1.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维护组织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1403280" y="2171880"/>
            <a:ext cx="6400800" cy="3921120"/>
            <a:chOff x="1403280" y="2171880"/>
            <a:chExt cx="6400800" cy="3921120"/>
          </a:xfrm>
        </p:grpSpPr>
        <p:grpSp>
          <p:nvGrpSpPr>
            <p:cNvPr id="272" name=""/>
            <p:cNvGrpSpPr/>
            <p:nvPr/>
          </p:nvGrpSpPr>
          <p:grpSpPr>
            <a:xfrm>
              <a:off x="4451400" y="3157560"/>
              <a:ext cx="209520" cy="565200"/>
              <a:chOff x="4451400" y="3157560"/>
              <a:chExt cx="209520" cy="565200"/>
            </a:xfrm>
          </p:grpSpPr>
          <p:sp>
            <p:nvSpPr>
              <p:cNvPr id="273" name=""/>
              <p:cNvSpPr/>
              <p:nvPr/>
            </p:nvSpPr>
            <p:spPr>
              <a:xfrm>
                <a:off x="4451400" y="3157560"/>
                <a:ext cx="209520" cy="211680"/>
              </a:xfrm>
              <a:prstGeom prst="ellipse">
                <a:avLst/>
              </a:prstGeom>
              <a:noFill/>
              <a:ln w="316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4451400" y="3355200"/>
                <a:ext cx="209520" cy="367560"/>
              </a:xfrm>
              <a:prstGeom prst="triangle">
                <a:avLst>
                  <a:gd name="adj" fmla="val 50000"/>
                </a:avLst>
              </a:prstGeom>
              <a:noFill/>
              <a:ln w="316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75" name=""/>
            <p:cNvGrpSpPr/>
            <p:nvPr/>
          </p:nvGrpSpPr>
          <p:grpSpPr>
            <a:xfrm>
              <a:off x="3179880" y="3154320"/>
              <a:ext cx="210960" cy="565200"/>
              <a:chOff x="3179880" y="3154320"/>
              <a:chExt cx="210960" cy="565200"/>
            </a:xfrm>
          </p:grpSpPr>
          <p:sp>
            <p:nvSpPr>
              <p:cNvPr id="276" name=""/>
              <p:cNvSpPr/>
              <p:nvPr/>
            </p:nvSpPr>
            <p:spPr>
              <a:xfrm>
                <a:off x="3179880" y="3154320"/>
                <a:ext cx="210960" cy="211680"/>
              </a:xfrm>
              <a:prstGeom prst="ellipse">
                <a:avLst/>
              </a:prstGeom>
              <a:noFill/>
              <a:ln w="316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3179880" y="3351960"/>
                <a:ext cx="210960" cy="367560"/>
              </a:xfrm>
              <a:prstGeom prst="triangle">
                <a:avLst>
                  <a:gd name="adj" fmla="val 50000"/>
                </a:avLst>
              </a:prstGeom>
              <a:noFill/>
              <a:ln w="316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78" name=""/>
            <p:cNvGrpSpPr/>
            <p:nvPr/>
          </p:nvGrpSpPr>
          <p:grpSpPr>
            <a:xfrm>
              <a:off x="3390840" y="4227480"/>
              <a:ext cx="212760" cy="565200"/>
              <a:chOff x="3390840" y="4227480"/>
              <a:chExt cx="212760" cy="565200"/>
            </a:xfrm>
          </p:grpSpPr>
          <p:sp>
            <p:nvSpPr>
              <p:cNvPr id="279" name=""/>
              <p:cNvSpPr/>
              <p:nvPr/>
            </p:nvSpPr>
            <p:spPr>
              <a:xfrm>
                <a:off x="3390840" y="4227480"/>
                <a:ext cx="212760" cy="211680"/>
              </a:xfrm>
              <a:prstGeom prst="ellipse">
                <a:avLst/>
              </a:prstGeom>
              <a:noFill/>
              <a:ln w="316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3390840" y="4425120"/>
                <a:ext cx="212760" cy="367560"/>
              </a:xfrm>
              <a:prstGeom prst="triangle">
                <a:avLst>
                  <a:gd name="adj" fmla="val 50000"/>
                </a:avLst>
              </a:prstGeom>
              <a:noFill/>
              <a:ln w="316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81" name=""/>
            <p:cNvGrpSpPr/>
            <p:nvPr/>
          </p:nvGrpSpPr>
          <p:grpSpPr>
            <a:xfrm>
              <a:off x="4437000" y="4186440"/>
              <a:ext cx="211320" cy="564480"/>
              <a:chOff x="4437000" y="4186440"/>
              <a:chExt cx="211320" cy="564480"/>
            </a:xfrm>
          </p:grpSpPr>
          <p:sp>
            <p:nvSpPr>
              <p:cNvPr id="282" name=""/>
              <p:cNvSpPr/>
              <p:nvPr/>
            </p:nvSpPr>
            <p:spPr>
              <a:xfrm>
                <a:off x="4437000" y="4186440"/>
                <a:ext cx="211320" cy="211680"/>
              </a:xfrm>
              <a:prstGeom prst="ellipse">
                <a:avLst/>
              </a:prstGeom>
              <a:noFill/>
              <a:ln w="316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4437000" y="4383720"/>
                <a:ext cx="211320" cy="367200"/>
              </a:xfrm>
              <a:prstGeom prst="triangle">
                <a:avLst>
                  <a:gd name="adj" fmla="val 50000"/>
                </a:avLst>
              </a:prstGeom>
              <a:noFill/>
              <a:ln w="316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84" name=""/>
            <p:cNvGrpSpPr/>
            <p:nvPr/>
          </p:nvGrpSpPr>
          <p:grpSpPr>
            <a:xfrm>
              <a:off x="5494320" y="4203720"/>
              <a:ext cx="212760" cy="565200"/>
              <a:chOff x="5494320" y="4203720"/>
              <a:chExt cx="212760" cy="565200"/>
            </a:xfrm>
          </p:grpSpPr>
          <p:sp>
            <p:nvSpPr>
              <p:cNvPr id="285" name=""/>
              <p:cNvSpPr/>
              <p:nvPr/>
            </p:nvSpPr>
            <p:spPr>
              <a:xfrm>
                <a:off x="5494320" y="4203720"/>
                <a:ext cx="212760" cy="211680"/>
              </a:xfrm>
              <a:prstGeom prst="ellipse">
                <a:avLst/>
              </a:prstGeom>
              <a:noFill/>
              <a:ln w="316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5494320" y="4401360"/>
                <a:ext cx="212760" cy="367560"/>
              </a:xfrm>
              <a:prstGeom prst="triangle">
                <a:avLst>
                  <a:gd name="adj" fmla="val 50000"/>
                </a:avLst>
              </a:prstGeom>
              <a:noFill/>
              <a:ln w="316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87" name=""/>
            <p:cNvSpPr/>
            <p:nvPr/>
          </p:nvSpPr>
          <p:spPr>
            <a:xfrm>
              <a:off x="2968560" y="5175360"/>
              <a:ext cx="297000" cy="296640"/>
            </a:xfrm>
            <a:prstGeom prst="rect">
              <a:avLst/>
            </a:prstGeom>
            <a:noFill/>
            <a:ln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168800" y="5145120"/>
              <a:ext cx="297000" cy="298440"/>
            </a:xfrm>
            <a:prstGeom prst="rect">
              <a:avLst/>
            </a:prstGeom>
            <a:noFill/>
            <a:ln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701880" y="5160960"/>
              <a:ext cx="297000" cy="297000"/>
            </a:xfrm>
            <a:prstGeom prst="rect">
              <a:avLst/>
            </a:prstGeom>
            <a:noFill/>
            <a:ln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619520" y="5145120"/>
              <a:ext cx="297000" cy="298440"/>
            </a:xfrm>
            <a:prstGeom prst="rect">
              <a:avLst/>
            </a:prstGeom>
            <a:noFill/>
            <a:ln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226120" y="5145120"/>
              <a:ext cx="296640" cy="298440"/>
            </a:xfrm>
            <a:prstGeom prst="rect">
              <a:avLst/>
            </a:prstGeom>
            <a:noFill/>
            <a:ln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665680" y="5130720"/>
              <a:ext cx="295560" cy="298440"/>
            </a:xfrm>
            <a:prstGeom prst="rect">
              <a:avLst/>
            </a:prstGeom>
            <a:noFill/>
            <a:ln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433680" y="3465720"/>
              <a:ext cx="973080" cy="0"/>
            </a:xfrm>
            <a:prstGeom prst="line">
              <a:avLst/>
            </a:prstGeom>
            <a:ln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549680" y="3789360"/>
              <a:ext cx="0" cy="354240"/>
            </a:xfrm>
            <a:prstGeom prst="line">
              <a:avLst/>
            </a:prstGeom>
            <a:ln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 flipH="1">
              <a:off x="3631680" y="3760920"/>
              <a:ext cx="747720" cy="509400"/>
            </a:xfrm>
            <a:prstGeom prst="line">
              <a:avLst/>
            </a:prstGeom>
            <a:ln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734000" y="3748320"/>
              <a:ext cx="760320" cy="493560"/>
            </a:xfrm>
            <a:prstGeom prst="line">
              <a:avLst/>
            </a:prstGeom>
            <a:ln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330720" y="5025960"/>
              <a:ext cx="63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…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 flipH="1">
              <a:off x="4293720" y="4807080"/>
              <a:ext cx="157320" cy="311040"/>
            </a:xfrm>
            <a:prstGeom prst="line">
              <a:avLst/>
            </a:prstGeom>
            <a:ln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4591080" y="4807080"/>
              <a:ext cx="156960" cy="296640"/>
            </a:xfrm>
            <a:prstGeom prst="line">
              <a:avLst/>
            </a:prstGeom>
            <a:ln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H="1">
              <a:off x="5340240" y="4807080"/>
              <a:ext cx="168480" cy="311040"/>
            </a:xfrm>
            <a:prstGeom prst="line">
              <a:avLst/>
            </a:prstGeom>
            <a:ln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665680" y="4807080"/>
              <a:ext cx="195480" cy="296640"/>
            </a:xfrm>
            <a:prstGeom prst="line">
              <a:avLst/>
            </a:prstGeom>
            <a:ln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H="1">
              <a:off x="3165120" y="4835520"/>
              <a:ext cx="268200" cy="295200"/>
            </a:xfrm>
            <a:prstGeom prst="line">
              <a:avLst/>
            </a:prstGeom>
            <a:ln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560760" y="4835520"/>
              <a:ext cx="297000" cy="282600"/>
            </a:xfrm>
            <a:prstGeom prst="line">
              <a:avLst/>
            </a:prstGeom>
            <a:ln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076720" y="2171880"/>
              <a:ext cx="2514600" cy="71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维护要求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（软件问题报告）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rot="19200000">
              <a:off x="4721040" y="2901960"/>
              <a:ext cx="550800" cy="184320"/>
            </a:xfrm>
            <a:prstGeom prst="leftArrow">
              <a:avLst>
                <a:gd name="adj1" fmla="val 50000"/>
                <a:gd name="adj2" fmla="val 74707"/>
              </a:avLst>
            </a:prstGeom>
            <a:noFill/>
            <a:ln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56040" y="3276720"/>
              <a:ext cx="18241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维护管理员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819760" y="4256280"/>
              <a:ext cx="1984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系统管理员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059520" y="5130720"/>
              <a:ext cx="148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软件系统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403280" y="3338640"/>
              <a:ext cx="198756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变化授权人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179880" y="5726160"/>
              <a:ext cx="27543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图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8.1 </a:t>
              </a: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维护组织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/>
          </p:nvPr>
        </p:nvSpPr>
        <p:spPr>
          <a:xfrm>
            <a:off x="539280" y="1566720"/>
            <a:ext cx="8425080" cy="4454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根据软件问题报告（维护要求），作出的软件修改报告包含的信息主要有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满足维护要求表中提出的要求所需要的工作量；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维护要求的性质；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这项要求的优先次序；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与修改有关的事后数据（如测试数据等）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507960" y="905040"/>
            <a:ext cx="32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2.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维护报告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/>
          </p:nvPr>
        </p:nvSpPr>
        <p:spPr>
          <a:xfrm>
            <a:off x="761760" y="844200"/>
            <a:ext cx="4343400" cy="5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3.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维护的事件流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4" name=""/>
          <p:cNvGrpSpPr/>
          <p:nvPr/>
        </p:nvGrpSpPr>
        <p:grpSpPr>
          <a:xfrm>
            <a:off x="944640" y="1413000"/>
            <a:ext cx="7443360" cy="5040000"/>
            <a:chOff x="944640" y="1413000"/>
            <a:chExt cx="7443360" cy="5040000"/>
          </a:xfrm>
        </p:grpSpPr>
        <p:sp>
          <p:nvSpPr>
            <p:cNvPr id="315" name=""/>
            <p:cNvSpPr/>
            <p:nvPr/>
          </p:nvSpPr>
          <p:spPr>
            <a:xfrm>
              <a:off x="1131840" y="1897560"/>
              <a:ext cx="1123200" cy="1116720"/>
            </a:xfrm>
            <a:prstGeom prst="ellipse">
              <a:avLst/>
            </a:prstGeom>
            <a:noFill/>
            <a:ln w="34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类型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4878360" y="1575000"/>
              <a:ext cx="1123200" cy="1116360"/>
            </a:xfrm>
            <a:prstGeom prst="ellipse">
              <a:avLst/>
            </a:prstGeom>
            <a:noFill/>
            <a:ln w="34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开始分析问题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067480" y="3349080"/>
              <a:ext cx="1125000" cy="1118160"/>
            </a:xfrm>
            <a:prstGeom prst="ellipse">
              <a:avLst/>
            </a:prstGeom>
            <a:noFill/>
            <a:ln w="34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评价优先度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966480" y="2865960"/>
              <a:ext cx="1124640" cy="1116360"/>
            </a:xfrm>
            <a:prstGeom prst="ellipse">
              <a:avLst/>
            </a:prstGeom>
            <a:noFill/>
            <a:ln w="34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计划改正进度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380040" y="4802400"/>
              <a:ext cx="1123200" cy="1116360"/>
            </a:xfrm>
            <a:prstGeom prst="ellipse">
              <a:avLst/>
            </a:prstGeom>
            <a:noFill/>
            <a:ln w="34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开始分析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628600" y="3349080"/>
              <a:ext cx="1122840" cy="1118160"/>
            </a:xfrm>
            <a:prstGeom prst="ellipse">
              <a:avLst/>
            </a:prstGeom>
            <a:noFill/>
            <a:ln w="34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维护任务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939360" y="4479480"/>
              <a:ext cx="1122840" cy="1116720"/>
            </a:xfrm>
            <a:prstGeom prst="ellipse">
              <a:avLst/>
            </a:prstGeom>
            <a:noFill/>
            <a:ln w="34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复审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004920" y="1575000"/>
              <a:ext cx="1123200" cy="1116360"/>
            </a:xfrm>
            <a:prstGeom prst="ellipse">
              <a:avLst/>
            </a:prstGeom>
            <a:noFill/>
            <a:ln w="34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估量错误严重程度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2255400" y="2257200"/>
              <a:ext cx="749520" cy="123480"/>
            </a:xfrm>
            <a:prstGeom prst="line">
              <a:avLst/>
            </a:prstGeom>
            <a:ln w="3492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128480" y="2061360"/>
              <a:ext cx="762480" cy="12240"/>
            </a:xfrm>
            <a:prstGeom prst="line">
              <a:avLst/>
            </a:prstGeom>
            <a:ln w="34920">
              <a:solidFill>
                <a:srgbClr val="ffffff"/>
              </a:solidFill>
              <a:miter/>
              <a:tailEnd len="med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628600" y="2703600"/>
              <a:ext cx="336600" cy="669960"/>
            </a:xfrm>
            <a:prstGeom prst="line">
              <a:avLst/>
            </a:prstGeom>
            <a:ln w="34920">
              <a:solidFill>
                <a:srgbClr val="ffffff"/>
              </a:solidFill>
              <a:miter/>
              <a:tailEnd len="med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004920" y="4317480"/>
              <a:ext cx="562320" cy="645480"/>
            </a:xfrm>
            <a:prstGeom prst="line">
              <a:avLst/>
            </a:prstGeom>
            <a:ln w="34920">
              <a:solidFill>
                <a:srgbClr val="ffffff"/>
              </a:solidFill>
              <a:miter/>
              <a:tailEnd len="med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891960" y="2592720"/>
              <a:ext cx="323640" cy="384480"/>
            </a:xfrm>
            <a:prstGeom prst="line">
              <a:avLst/>
            </a:prstGeom>
            <a:ln w="34920">
              <a:solidFill>
                <a:srgbClr val="ffffff"/>
              </a:solidFill>
              <a:miter/>
              <a:tailEnd len="med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694160" y="3051000"/>
              <a:ext cx="424440" cy="497160"/>
            </a:xfrm>
            <a:prstGeom prst="line">
              <a:avLst/>
            </a:prstGeom>
            <a:ln w="34920">
              <a:solidFill>
                <a:srgbClr val="ffffff"/>
              </a:solidFill>
              <a:miter/>
              <a:tailEnd len="med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193480" y="2765520"/>
              <a:ext cx="374760" cy="484560"/>
            </a:xfrm>
            <a:prstGeom prst="line">
              <a:avLst/>
            </a:prstGeom>
            <a:ln w="34920">
              <a:solidFill>
                <a:srgbClr val="ffffff"/>
              </a:solidFill>
              <a:miter/>
              <a:tailEnd len="med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944640" y="1575000"/>
              <a:ext cx="411120" cy="408960"/>
            </a:xfrm>
            <a:prstGeom prst="line">
              <a:avLst/>
            </a:prstGeom>
            <a:ln w="34920">
              <a:solidFill>
                <a:srgbClr val="ffffff"/>
              </a:solidFill>
              <a:miter/>
              <a:tailEnd len="med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 flipH="1">
              <a:off x="4191480" y="3994920"/>
              <a:ext cx="236520" cy="334800"/>
            </a:xfrm>
            <a:prstGeom prst="line">
              <a:avLst/>
            </a:prstGeom>
            <a:ln w="34920">
              <a:solidFill>
                <a:srgbClr val="ffffff"/>
              </a:solidFill>
              <a:miter/>
              <a:tailEnd len="med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567600" y="4317480"/>
              <a:ext cx="1498320" cy="0"/>
            </a:xfrm>
            <a:prstGeom prst="line">
              <a:avLst/>
            </a:prstGeom>
            <a:ln w="34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567600" y="4430160"/>
              <a:ext cx="1498320" cy="0"/>
            </a:xfrm>
            <a:prstGeom prst="line">
              <a:avLst/>
            </a:prstGeom>
            <a:ln w="34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319040" y="5012640"/>
              <a:ext cx="1498320" cy="0"/>
            </a:xfrm>
            <a:prstGeom prst="line">
              <a:avLst/>
            </a:prstGeom>
            <a:ln w="34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1319040" y="5125320"/>
              <a:ext cx="1498320" cy="0"/>
            </a:xfrm>
            <a:prstGeom prst="line">
              <a:avLst/>
            </a:prstGeom>
            <a:ln w="34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 flipH="1">
              <a:off x="2043360" y="4467240"/>
              <a:ext cx="373320" cy="532440"/>
            </a:xfrm>
            <a:prstGeom prst="line">
              <a:avLst/>
            </a:prstGeom>
            <a:ln w="34920">
              <a:solidFill>
                <a:srgbClr val="ffffff"/>
              </a:solidFill>
              <a:miter/>
              <a:tailEnd len="med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4503600" y="4230720"/>
              <a:ext cx="1148400" cy="894240"/>
            </a:xfrm>
            <a:prstGeom prst="line">
              <a:avLst/>
            </a:prstGeom>
            <a:ln w="34920">
              <a:solidFill>
                <a:srgbClr val="ffffff"/>
              </a:solidFill>
              <a:miter/>
              <a:tailEnd len="med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564240" y="4317480"/>
              <a:ext cx="462240" cy="360000"/>
            </a:xfrm>
            <a:prstGeom prst="line">
              <a:avLst/>
            </a:prstGeom>
            <a:ln w="34920">
              <a:solidFill>
                <a:srgbClr val="ffffff"/>
              </a:solidFill>
              <a:miter/>
              <a:tailEnd len="med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875000" y="5447880"/>
              <a:ext cx="513000" cy="446400"/>
            </a:xfrm>
            <a:prstGeom prst="line">
              <a:avLst/>
            </a:prstGeom>
            <a:ln w="34920">
              <a:solidFill>
                <a:srgbClr val="ffffff"/>
              </a:solidFill>
              <a:miter/>
              <a:tailEnd len="med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119240" y="1413000"/>
              <a:ext cx="11232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维护要求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355480" y="1996560"/>
              <a:ext cx="74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错误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241160" y="1735200"/>
              <a:ext cx="74952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严重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517120" y="2777760"/>
              <a:ext cx="74988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适应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1319040" y="3188520"/>
              <a:ext cx="74808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完善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4066560" y="2543400"/>
              <a:ext cx="93744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不严重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466080" y="4445640"/>
              <a:ext cx="184464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错误改正目录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1402200" y="5193360"/>
              <a:ext cx="131076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开发目录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3004920" y="4565880"/>
              <a:ext cx="37476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高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1918440" y="4479480"/>
              <a:ext cx="37476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低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4916520" y="4777560"/>
              <a:ext cx="131076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分配的人员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5825160" y="2747160"/>
              <a:ext cx="14490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分配的人员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6816960" y="3858840"/>
              <a:ext cx="1145520" cy="74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修改后的软件配置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511680" y="5711760"/>
              <a:ext cx="1601280" cy="74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复审后供使用的软件配置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2469600" y="6082560"/>
              <a:ext cx="3746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图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8.2 </a:t>
              </a: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维护阶段的工作流程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255400" y="2422800"/>
              <a:ext cx="513000" cy="71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⊕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956600" y="2910600"/>
              <a:ext cx="511560" cy="7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⊕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4153680" y="2141640"/>
              <a:ext cx="511560" cy="71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⊕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568240" y="4523040"/>
              <a:ext cx="511200" cy="7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⊕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99520" y="1158480"/>
            <a:ext cx="4343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问题：软件交付使用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37840" y="1944360"/>
            <a:ext cx="7745400" cy="30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软件验收测试以后，就标志着软件设计开发阶段的结束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而软件交付用户使用，才真正标志漫长的维护阶段的开始。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/>
          </p:nvPr>
        </p:nvSpPr>
        <p:spPr>
          <a:xfrm>
            <a:off x="394920" y="765000"/>
            <a:ext cx="4343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4.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保存维护记录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6560" y="1413000"/>
            <a:ext cx="8498160" cy="52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）程序标识；                   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）源语句数；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）机器指令数；               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）使用的程序设计语言；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5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）程序安装的日期；       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6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）自安装以来程序运行次数；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7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）自安装以来程序失效次数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8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）程序变动的层次和标识；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9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）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因程序变动而增加的源语句数；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10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）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因程序变动而删除的源语句数；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11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）每个改动耗费的人时数；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12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）程序改动的日期；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13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）软件工程师的名字； 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14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）维护要求表的标识；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15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）维护类型；                 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16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）维护开始和完成的日期；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17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）累计用于维护的人时数；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18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）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与完成的维护相联系的纯效益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/>
          <p:nvPr/>
        </p:nvSpPr>
        <p:spPr>
          <a:xfrm>
            <a:off x="609480" y="83664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5. 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评价维护活动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09480" y="1484280"/>
            <a:ext cx="80661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可以从以下方面度量维护工作：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）每次程序运行平均失效的次数；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）用于每一类维护活动的总人时数；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）平均每个程序、每种维护类型所做的程序变动数；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）维护过程中增加或删除一个源语句平均花费的人时数；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5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）维护每种语言平均花费的人时数；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6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）一张维护要求表的平均周转时间；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7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）不同维护类型所占的百分比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07640" y="918720"/>
            <a:ext cx="50274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8.4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软件的可维护性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761760" y="2057400"/>
            <a:ext cx="7986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软件可维护性是：维护人员理解、改正和改进软件的难易程度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一个软件的可维护性，主要由三个因素决定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1. 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可理解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可理解性表现为外来读者理解软件的结构、接口、功能和内部过程的难易程度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1615320" y="1554120"/>
            <a:ext cx="387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8.4.1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决定软件可维护性的因素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/>
          </p:nvPr>
        </p:nvSpPr>
        <p:spPr>
          <a:xfrm>
            <a:off x="863640" y="896760"/>
            <a:ext cx="7315200" cy="2244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影响软件可理解性的重要因素有：模块化、结构化设计、详细的设计文档资料、源代码内部文档、良好的程序设计语言等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914400" y="3219480"/>
            <a:ext cx="739152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2. 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可测试性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ecff"/>
                </a:solidFill>
                <a:latin typeface="Times New Roman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在设计开发阶段应该注意尽量把软件设计成容易测试和容易诊断的，可用的测试工具和调试工具对测试和诊断非常重要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/>
          </p:nvPr>
        </p:nvSpPr>
        <p:spPr>
          <a:xfrm>
            <a:off x="838080" y="1142640"/>
            <a:ext cx="731520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3. 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可修改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软件的可修改程度与软件设计阶段采用的原则和策略是直接相关的。如：模块的耦合、内聚、控制范围和作用范围、局部化程度都直接影响软件的可修改性。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/>
          </p:nvPr>
        </p:nvSpPr>
        <p:spPr>
          <a:xfrm>
            <a:off x="838080" y="1114560"/>
            <a:ext cx="6477120" cy="18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4. 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可移植性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5. 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可重用性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925560" y="2852640"/>
            <a:ext cx="739152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决定软件可维护性的最终因素是软件设计阶段所采用的方法，以及软件文档资料的好坏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提高软件的可维护性是软件工程的一个重要目标。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/>
          </p:nvPr>
        </p:nvSpPr>
        <p:spPr>
          <a:xfrm>
            <a:off x="829800" y="692280"/>
            <a:ext cx="33102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8.4.2 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文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1.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用户文档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）功能描述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）安装文档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）使用手册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）参考手册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）操作员指南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2.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系统文档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4859280" y="2205000"/>
            <a:ext cx="3097440" cy="2519280"/>
          </a:xfrm>
          <a:prstGeom prst="rect">
            <a:avLst/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SVN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软件：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配置修改记录、代码版本管理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/>
          </p:nvPr>
        </p:nvSpPr>
        <p:spPr>
          <a:xfrm>
            <a:off x="914400" y="1062000"/>
            <a:ext cx="739152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8.4.3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可维护性复审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测试结束时进行正式的可维护性复审，称为配置复审，目的是：保证软件配置的所有成分是完整的、一致的和可理解的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/>
          </p:nvPr>
        </p:nvSpPr>
        <p:spPr>
          <a:xfrm>
            <a:off x="538200" y="1634760"/>
            <a:ext cx="7826400" cy="37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在软件的维护过程中，花费的大量工作量会直接影响软件的成本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因此，应当考虑有哪些因素会影响软件维护的工作量，应该采取什么维护策略，才能有效地维护软件并控制维护的成本。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1527120" y="1049400"/>
            <a:ext cx="363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8.4.4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影响维护工作量的因素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/>
          </p:nvPr>
        </p:nvSpPr>
        <p:spPr>
          <a:xfrm>
            <a:off x="685440" y="685800"/>
            <a:ext cx="7620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7800"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影响软件维护工作量的因素有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7800"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系统大小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。系统越大，功能越复杂，理解掌握起来就越困难，需要的维护工作量越大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7800"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程序设计语言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。使用功能强的程序设计语言可以控制程序的规模。语言的功能越强，生成程序所需的指令数就越少；语言的功能越弱，实现同样功能所需的语句就越多，程序就越大，维护起来就越困难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685440" y="106668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软件交付使用就是新系统和旧系统的转换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旧系统可能是人工作业系统，也可能是某个旧的计算机系统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软件交付应该是一个过程，而不是一个突然事件，软件的交付使用应尽可能平稳过渡，不影响生产或工作，新系统逐步安全地取代旧系统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/>
          </p:nvPr>
        </p:nvSpPr>
        <p:spPr>
          <a:xfrm>
            <a:off x="457200" y="542520"/>
            <a:ext cx="7772400" cy="33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7800"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系统年龄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。老系统比新系统需要更多的维护工作量。许多老系统在当初并未按照软件工程的要求进行开发，没有文档，或文档太少，或者在长期的维护中许多地方与程序不一致，维护起来困难较大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39640" y="3659040"/>
            <a:ext cx="7704360" cy="30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77800" indent="-57780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）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数据库技术的应用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。使用数据库工具，可有效地管理和存储用户程序中的数据，可方便地修改、扩充报表。数据库技术的使用可以减少维护工作量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/>
          </p:nvPr>
        </p:nvSpPr>
        <p:spPr>
          <a:xfrm>
            <a:off x="762120" y="837720"/>
            <a:ext cx="73152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7800"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先进的软件开发技术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。在软件开发时，如果使用能使软件结构比较稳定的分析与设计技术（如面向对象分析、设计技术），可以减少一定的工作量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7800"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其它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。如，应用的类型、数学模型、任务的难度、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F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嵌套深度等等都会对维护工作量产生一定的影响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-108000" y="561600"/>
            <a:ext cx="46483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8.5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预防性维护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750600" y="1186920"/>
            <a:ext cx="792468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6212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对旧程序维护的做法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6212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）反复多次做修改程序的尝试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6212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）先通过仔细分析程序，尽可能多地掌握程序内部工作细节，再有效地修改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6212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）用软件工程方法重新设计、编码和测试需要变更的软件部分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6212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）以软件工程方法为指导，对程序全部重新设计、编码和测试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6212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          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）是局部再工程；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）是软件再工程 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/ 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预防性维护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/>
          </p:nvPr>
        </p:nvSpPr>
        <p:spPr>
          <a:xfrm>
            <a:off x="539280" y="1052640"/>
            <a:ext cx="793116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90180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进行预防性维护的主要理由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90180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对于旧系统而言，维护一行原代码的代价可能是最初开该行源代码代价的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4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－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40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倍；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90180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重新设计软件体系结构（程序和数据结构）使用最新的设计理念，对将来的维护有较大帮助；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90180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原有旧系统可作为软件原型使用，能提高开发效率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4920" y="637920"/>
            <a:ext cx="5029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8.6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软件再工程过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4" name=""/>
          <p:cNvGrpSpPr/>
          <p:nvPr/>
        </p:nvGrpSpPr>
        <p:grpSpPr>
          <a:xfrm>
            <a:off x="539640" y="1523880"/>
            <a:ext cx="4572000" cy="4589640"/>
            <a:chOff x="539640" y="1523880"/>
            <a:chExt cx="4572000" cy="4589640"/>
          </a:xfrm>
        </p:grpSpPr>
        <p:sp>
          <p:nvSpPr>
            <p:cNvPr id="385" name=""/>
            <p:cNvSpPr/>
            <p:nvPr/>
          </p:nvSpPr>
          <p:spPr>
            <a:xfrm>
              <a:off x="539640" y="1523880"/>
              <a:ext cx="4572000" cy="4572000"/>
            </a:xfrm>
            <a:prstGeom prst="donut">
              <a:avLst>
                <a:gd name="adj" fmla="val 24689"/>
              </a:avLst>
            </a:prstGeom>
            <a:noFill/>
            <a:ln cap="sq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 flipH="1">
              <a:off x="968040" y="4267080"/>
              <a:ext cx="181080" cy="866880"/>
            </a:xfrm>
            <a:prstGeom prst="line">
              <a:avLst/>
            </a:prstGeom>
            <a:ln cap="sq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149480" y="4267080"/>
              <a:ext cx="761760" cy="228600"/>
            </a:xfrm>
            <a:prstGeom prst="line">
              <a:avLst/>
            </a:prstGeom>
            <a:ln cap="sq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>
              <a:off x="777600" y="2514600"/>
              <a:ext cx="904680" cy="293760"/>
            </a:xfrm>
            <a:prstGeom prst="line">
              <a:avLst/>
            </a:prstGeom>
            <a:ln cap="sq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682640" y="2514600"/>
              <a:ext cx="109800" cy="763560"/>
            </a:xfrm>
            <a:prstGeom prst="line">
              <a:avLst/>
            </a:prstGeom>
            <a:ln cap="sq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flipH="1" flipV="1">
              <a:off x="2757240" y="1541160"/>
              <a:ext cx="525240" cy="592200"/>
            </a:xfrm>
            <a:prstGeom prst="line">
              <a:avLst/>
            </a:prstGeom>
            <a:ln cap="sq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 flipH="1">
              <a:off x="2757240" y="2133720"/>
              <a:ext cx="525240" cy="517320"/>
            </a:xfrm>
            <a:prstGeom prst="line">
              <a:avLst/>
            </a:prstGeom>
            <a:ln cap="sq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 flipV="1">
              <a:off x="2314440" y="4976280"/>
              <a:ext cx="561960" cy="484200"/>
            </a:xfrm>
            <a:prstGeom prst="line">
              <a:avLst/>
            </a:prstGeom>
            <a:ln cap="sq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2292480" y="5486400"/>
              <a:ext cx="569880" cy="627120"/>
            </a:xfrm>
            <a:prstGeom prst="line">
              <a:avLst/>
            </a:prstGeom>
            <a:ln cap="sq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H="1" flipV="1">
              <a:off x="3921120" y="4206960"/>
              <a:ext cx="200160" cy="745920"/>
            </a:xfrm>
            <a:prstGeom prst="line">
              <a:avLst/>
            </a:prstGeom>
            <a:ln cap="sq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 flipV="1">
              <a:off x="4121280" y="4506480"/>
              <a:ext cx="857160" cy="446040"/>
            </a:xfrm>
            <a:prstGeom prst="line">
              <a:avLst/>
            </a:prstGeom>
            <a:ln cap="sq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 flipV="1">
              <a:off x="4502160" y="2585520"/>
              <a:ext cx="241200" cy="690840"/>
            </a:xfrm>
            <a:prstGeom prst="line">
              <a:avLst/>
            </a:prstGeom>
            <a:ln cap="sq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 flipH="1" flipV="1">
              <a:off x="3723840" y="3083040"/>
              <a:ext cx="777960" cy="193680"/>
            </a:xfrm>
            <a:prstGeom prst="line">
              <a:avLst/>
            </a:prstGeom>
            <a:ln cap="sq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911240" y="175248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正向工程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435480" y="1828800"/>
              <a:ext cx="9144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库存目录分析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4044960" y="342900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文档重构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2978280" y="495288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逆向工程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1301760" y="472428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代码重构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2280" y="312408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数据重构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04" name=""/>
          <p:cNvSpPr/>
          <p:nvPr/>
        </p:nvSpPr>
        <p:spPr>
          <a:xfrm>
            <a:off x="5580000" y="1125360"/>
            <a:ext cx="2881440" cy="15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活动以线性顺序发生，但并非总是这样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对于任意一个特定循环，可在完成任意一个活动后终止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/>
          </p:nvPr>
        </p:nvSpPr>
        <p:spPr>
          <a:xfrm>
            <a:off x="756720" y="620280"/>
            <a:ext cx="7991640" cy="5759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该模型定义的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6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类活动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1.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库存目录分析；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包含每个应用系统的信息，如：名称、构建日期、修改次数、过去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8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个月报告的错误、用户数量、文档质量、预期寿命，等。从中选出再工程的候选者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2.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文档重构；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）如果一个程序走向生命终点，不再经历变化，则保持现状；（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）重构只针对当前正在修改的软件部分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3.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逆向工程；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逆向工程是一个恢复设计结果的过程，从程序代码中抽取数据结构、体系结构和处理过程的设计信息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/>
          </p:nvPr>
        </p:nvSpPr>
        <p:spPr>
          <a:xfrm>
            <a:off x="685800" y="791640"/>
            <a:ext cx="7772400" cy="602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4.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代码重构；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分析源代码，标注出与结构化程序设计概念不符的部分，重构它的代码，测试重构代码并更新代码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5.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数据重构；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当数据结构较差时，进行再工程。如以文件方式保存数据变为以数据库方式存储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6.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正向工程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也称革新或改造，即应用软件工程的原理、概念、技术和方法来重新开发现有系统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394920" y="775800"/>
            <a:ext cx="26622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第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8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章小结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800" y="119016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ecff"/>
                </a:solidFill>
                <a:latin typeface="Times New Roman"/>
                <a:ea typeface="MS Shell Dlg"/>
              </a:rPr>
              <a:t>◇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MS Shell Dlg"/>
              </a:rPr>
              <a:t>软件维护手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MS Shell Dlg"/>
              </a:rPr>
              <a:t>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MS Shell Dlg"/>
              </a:rPr>
              <a:t>主要包括软件系统说明、程序模块说明、操作环境、支持软件的说明、维护过程的说明，便于软件的维护。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ecff"/>
                </a:solidFill>
                <a:latin typeface="Times New Roman"/>
                <a:ea typeface="MS Shell Dlg"/>
              </a:rPr>
              <a:t>◇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MS Shell Dlg"/>
              </a:rPr>
              <a:t>软件问题报告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MS Shell Dlg"/>
              </a:rPr>
              <a:t>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MS Shell Dlg"/>
              </a:rPr>
              <a:t>指出软件问题的登记情况，如日期、发现人、状态、问题所属模块等，为软件修改提供准备文档。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ecff"/>
                </a:solidFill>
                <a:latin typeface="Times New Roman"/>
                <a:ea typeface="MS Shell Dlg"/>
              </a:rPr>
              <a:t>◇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MS Shell Dlg"/>
              </a:rPr>
              <a:t>软件修改报告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MS Shell Dlg"/>
              </a:rPr>
              <a:t>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MS Shell Dlg"/>
              </a:rPr>
              <a:t>软件产品投入运行以后，发现了需对其进行修正、更改等问题，应将存在的问题、修改的考虑以及修改的影响作出详细的描述，提交审批。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394920" y="980640"/>
            <a:ext cx="637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软件工程开发中其它重要的文档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19200" y="1712520"/>
            <a:ext cx="7664400" cy="4025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ecff"/>
                </a:solidFill>
                <a:latin typeface="Times New Roman"/>
                <a:ea typeface="MS Shell Dlg"/>
              </a:rPr>
              <a:t>◇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MS Shell Dlg"/>
              </a:rPr>
              <a:t>开发进度月报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MS Shell Dlg"/>
              </a:rPr>
              <a:t>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MS Shell Dlg"/>
              </a:rPr>
              <a:t>该月报系软件人员按月向管理部门提交的项目进展情况报告，报告应包括进度计划与实际执行情况的比较、阶段成果、遇到的问题和解决的办法以及下个月的打算等。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/>
          </p:nvPr>
        </p:nvSpPr>
        <p:spPr>
          <a:xfrm>
            <a:off x="538200" y="1600200"/>
            <a:ext cx="7826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ecff"/>
                </a:solidFill>
                <a:latin typeface="Times New Roman"/>
                <a:ea typeface="MS Shell Dlg"/>
              </a:rPr>
              <a:t>◇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MS Shell Dlg"/>
              </a:rPr>
              <a:t>项目开发总结报告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MS Shell Dlg"/>
              </a:rPr>
              <a:t>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MS Shell Dlg"/>
              </a:rPr>
              <a:t>软件项目开发完成以后，应与项目实施计划对照，总结实际执行的情况，如进度、成果、资源利用、成本和投入的人力，此外，还需对开发工作做出评价，总结出经验和教训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title"/>
          </p:nvPr>
        </p:nvSpPr>
        <p:spPr>
          <a:xfrm>
            <a:off x="537840" y="980640"/>
            <a:ext cx="6373800" cy="5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软件工程开发中其它重要的文档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844200" y="1206360"/>
            <a:ext cx="754380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7800"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一、软件交付使用的工作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7800"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）将旧系统的数据转换到新系统（如数据库数据）；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7800"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）新系统调试完成并加载入机器，准备运行；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7800"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）将有关资料（如使用说明）转交给用户；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780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）对用户做适当的培训。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698040" y="1634760"/>
            <a:ext cx="766620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ecff"/>
                </a:solidFill>
                <a:latin typeface="Times New Roman"/>
                <a:ea typeface="MS Shell Dlg"/>
              </a:rPr>
              <a:t>◇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MS Shell Dlg"/>
              </a:rPr>
              <a:t>用户操作手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MS Shell Dlg"/>
              </a:rPr>
              <a:t>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MS Shell Dlg"/>
              </a:rPr>
              <a:t>本手册详细描述软件的功能、性能和用户界面，使用户对如何使用该软件得到具体的了解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MS Shell Dlg"/>
              </a:rPr>
              <a:t>,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MS Shell Dlg"/>
              </a:rPr>
              <a:t>为操作人员提供该软件各种运行情况的有关知识，特别是操作方法的具体细节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537840" y="1052280"/>
            <a:ext cx="6373800" cy="5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软件工程开发中其它重要的文档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914400" y="748800"/>
            <a:ext cx="5486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二、软件交付使用的方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）直接方式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3124080" y="2133720"/>
            <a:ext cx="3200040" cy="2302920"/>
            <a:chOff x="3124080" y="2133720"/>
            <a:chExt cx="3200040" cy="2302920"/>
          </a:xfrm>
        </p:grpSpPr>
        <p:sp>
          <p:nvSpPr>
            <p:cNvPr id="222" name=""/>
            <p:cNvSpPr/>
            <p:nvPr/>
          </p:nvSpPr>
          <p:spPr>
            <a:xfrm>
              <a:off x="3124080" y="3061080"/>
              <a:ext cx="3200040" cy="0"/>
            </a:xfrm>
            <a:prstGeom prst="line">
              <a:avLst/>
            </a:prstGeom>
            <a:ln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617000" y="2412720"/>
              <a:ext cx="0" cy="1307160"/>
            </a:xfrm>
            <a:prstGeom prst="line">
              <a:avLst/>
            </a:prstGeom>
            <a:ln w="3168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124080" y="2625480"/>
              <a:ext cx="1492920" cy="0"/>
            </a:xfrm>
            <a:prstGeom prst="line">
              <a:avLst/>
            </a:prstGeom>
            <a:ln w="31680">
              <a:solidFill>
                <a:srgbClr val="ffffff"/>
              </a:solidFill>
              <a:miter/>
              <a:tailEnd len="med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617000" y="3497040"/>
              <a:ext cx="1492920" cy="0"/>
            </a:xfrm>
            <a:prstGeom prst="line">
              <a:avLst/>
            </a:prstGeom>
            <a:ln w="31680">
              <a:solidFill>
                <a:srgbClr val="ffffff"/>
              </a:solidFill>
              <a:miter/>
              <a:tailEnd len="med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124080" y="2133720"/>
              <a:ext cx="1492920" cy="43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旧系统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617000" y="3497040"/>
              <a:ext cx="1492920" cy="43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新系统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152160" y="4001040"/>
              <a:ext cx="2773800" cy="43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（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a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）</a:t>
              </a: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直接方式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9" name=""/>
          <p:cNvSpPr/>
          <p:nvPr/>
        </p:nvSpPr>
        <p:spPr>
          <a:xfrm>
            <a:off x="1143000" y="4357800"/>
            <a:ext cx="7461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直接方式是用新系统直接替换旧系统，没有过渡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ecff"/>
                </a:solidFill>
                <a:latin typeface="Times New Roman"/>
                <a:ea typeface="楷体_GB2312"/>
              </a:rPr>
              <a:t>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优点：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转换简单，费用最省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缺点：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风险大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。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838080" y="1371240"/>
            <a:ext cx="7391520" cy="3505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由于新系统没有承担过实际工作，可能会出现意想不到的问题，甚至出现程序设计错误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因此，实际应用时，采取一些措施，以便新系统一旦出错，旧系统能够恢复运行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直接方式不适用于一些关系重大的系统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837720" y="920520"/>
            <a:ext cx="266724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）并行方式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2057400" y="3794040"/>
            <a:ext cx="4952520" cy="2514240"/>
            <a:chOff x="2057400" y="3794040"/>
            <a:chExt cx="4952520" cy="2514240"/>
          </a:xfrm>
        </p:grpSpPr>
        <p:sp>
          <p:nvSpPr>
            <p:cNvPr id="233" name=""/>
            <p:cNvSpPr/>
            <p:nvPr/>
          </p:nvSpPr>
          <p:spPr>
            <a:xfrm>
              <a:off x="2057400" y="4748760"/>
              <a:ext cx="4952520" cy="0"/>
            </a:xfrm>
            <a:prstGeom prst="line">
              <a:avLst/>
            </a:prstGeom>
            <a:ln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717280" y="4270320"/>
              <a:ext cx="2310480" cy="0"/>
            </a:xfrm>
            <a:prstGeom prst="line">
              <a:avLst/>
            </a:prstGeom>
            <a:ln w="31680">
              <a:solidFill>
                <a:srgbClr val="ffffff"/>
              </a:solidFill>
              <a:miter/>
              <a:tailEnd len="med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039200" y="5225040"/>
              <a:ext cx="2310480" cy="0"/>
            </a:xfrm>
            <a:prstGeom prst="line">
              <a:avLst/>
            </a:prstGeom>
            <a:ln w="31680">
              <a:solidFill>
                <a:srgbClr val="ffffff"/>
              </a:solidFill>
              <a:miter/>
              <a:tailEnd len="med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388240" y="3794040"/>
              <a:ext cx="231084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旧系统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927240" y="5225040"/>
              <a:ext cx="231300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新系统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100240" y="5832000"/>
              <a:ext cx="429264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（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b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）</a:t>
              </a: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并行方式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027760" y="3820680"/>
              <a:ext cx="0" cy="954720"/>
            </a:xfrm>
            <a:prstGeom prst="line">
              <a:avLst/>
            </a:prstGeom>
            <a:ln w="3168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039200" y="4775400"/>
              <a:ext cx="0" cy="954000"/>
            </a:xfrm>
            <a:prstGeom prst="line">
              <a:avLst/>
            </a:prstGeom>
            <a:ln w="3168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41" name=""/>
          <p:cNvSpPr/>
          <p:nvPr/>
        </p:nvSpPr>
        <p:spPr>
          <a:xfrm>
            <a:off x="838080" y="1347840"/>
            <a:ext cx="739152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一些关系重大的软件产品在验收测试后，并不立即投入生产性运行，而是同时运行新系统和旧系统，以比较处理结果，这就是并行方式。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838080" y="990360"/>
            <a:ext cx="73152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优点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.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可以对系统进行全面测试，减少了新系统失灵带来的风险，因为旧系统也仍然存在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．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用户也能够有一段熟悉新系统的时间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缺点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所需费用较高，双系统要投入更多的人力财力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4:25:47Z</dcterms:created>
  <dc:creator>yzg</dc:creator>
  <dc:description/>
  <dc:language>en-US</dc:language>
  <cp:lastModifiedBy>MC SYSTEM</cp:lastModifiedBy>
  <dcterms:modified xsi:type="dcterms:W3CDTF">2015-04-02T07:08:06Z</dcterms:modified>
  <cp:revision>504</cp:revision>
  <dc:subject/>
  <dc:title>软件工程</dc:title>
</cp:coreProperties>
</file>